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678-8D71-493A-84D4-4FE11AD3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84D-27AE-44AB-8667-0900F01D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275-25DF-4276-AFC6-39E315E0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FF2-513A-4E1D-A963-98DBF2B1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D1A3-A67D-4F78-BCB4-BE5F412D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8715-3B89-4786-8B14-1A79E5D8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017D-3610-492D-BFD8-1561C677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E2BD-BEF2-4EFD-9ED3-6E624D9B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0811-06DD-4541-88D9-FEFD9CB1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D6C2-8310-4223-95EE-40CD34CA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07B7-0DEE-4B81-89BA-D47E807D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A14-361A-4D0C-9DD8-D8B3CA83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783A-463F-42D9-A01D-138AEC4E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8DF2-D16F-4A91-8EA0-06F7BAA7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3E63-6BFF-47EF-8D5C-44C4B96F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B0D9-6B0B-487D-9E4A-854ACA09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835C-121F-4056-B5D5-C47C4B35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947B-5B19-4A05-8949-0DDF82F1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832-5087-4301-AE4D-A437AEA9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AE6-7225-4F30-88EF-33B78683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2FB-9FCA-4513-A167-103ABCD3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C1F-7C37-4ACA-8357-389D4EE9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6B0-722B-4C5C-B0E6-84495BEF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DDB-EC89-4FBF-9738-02FD3857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9956-02DC-4A6E-8CE1-B2583F8BA4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B107-E318-4B00-9244-8E174CB0F8B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cylinder = Radiu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π x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Height = 3 x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2R(Diameter) x 3 x π = 24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6R = 78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R = 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Radius, find the h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H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 = 24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about 14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Total Surface area of the cyli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3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πx 2) + (2.35x2xπx14.2) = 227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7.02 x 14 = Cost of the Metal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sheet cost = $34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Concrete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e would have 0.5 meters added to the original container. the concrete’s radius = 2.85 height 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concrete = 2.8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π x 0.2 =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st of concrete = 5.1 x 640 = $3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TOTAL COST = $3421.6+$3264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$668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56674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images.google.com/images?gbv=2&amp;&amp;hl=en&amp;newwindow=1&amp;q=rice+storage&amp;&amp;sa=N&amp;start=54&amp;ndsp=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ood Storage - Cylinder with pointy roof"/>
          <p:cNvPicPr/>
          <p:nvPr/>
        </p:nvPicPr>
        <p:blipFill>
          <a:blip r:embed="rId2"/>
          <a:stretch/>
        </p:blipFill>
        <p:spPr>
          <a:xfrm>
            <a:off x="4724280" y="228600"/>
            <a:ext cx="3962520" cy="5410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24280" y="60958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ngie-crops.com/media/silos%20and%20lorr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One adult eats .25kg of rice per m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If there are 4 people in the family, even though the children wouldn’t eat as much as adults, but we will just make it 1kg for a family, in case extras members, and foo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1x50x14=700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adius: 0.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se area: 0.3m^2 (3.14x0.3^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ight: 3.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ircumference: 1.9m (3.14x0.3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 of the height: 6.7m^2 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SA: 6.9m^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st of metal: $9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ncrete:0.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ncrete cost: $14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otal cost: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$2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ylinder because it has the largest area with a fixed peri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akes up all the rice we need without wasting a lot of volumes and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kg goes into 700000cm^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= 0.7m^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^2 x pi x height = 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is diameter 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eter is 2x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height= radius x 2 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^2 x radius x 2 x 3 x pi=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^2x radiusx2x3=0.7/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≈0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dius^2x Radius =0.22/6 ≈0.0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^3=0.0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=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31400" y="5048280"/>
            <a:ext cx="345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uswitch.com/water/ how-much-water-use/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blog.naver.com/leemail07?Redirect=Log&amp;logNo=40034391615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querycat.com/faq/ f4c59fee94b30846229276c79121f335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iki.answers.com/Q/How_many_ml_of_water_does_a_person_need_a_day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hc-sc.gc.ca/fn-an/ food-guide-aliment/basics-base/quantit-eng.php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Seong Min's personal interview with his math tutor. 30 Nov.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30 Nov. 2008 &lt;http://www.data360.org/ dsg.aspx?Data_Set_Group_Id=7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thematics: water and grain storage facilty pro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30 Nov. 2008 &lt;www.snopes.com/medical/myths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glasses.asp&gt;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5715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lobalspec.com/NpaPics/98/151694_081120042854_ExhibitPic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743280" cy="569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76920" y="6216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fruitland.org/vertical/Sites/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What we found out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62320" y="1143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 real life: water are stored in cy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17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L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0 Families would need water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245700 L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ilet Fl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0 Li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4 Li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 Clot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6 Li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 Di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4 Li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Li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nk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 Li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7 Li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7920" y="83772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ylind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ircle gives the biggest area, but a sphere wouldn’t be as stable, therefore we chose cylinder prism with circle on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linder with Radius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35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igh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.2 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cos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685.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477120" y="1219320"/>
          <a:ext cx="266688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219320"/>
                    <a:ext cx="26668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91440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families would need 245700 liters for li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iter is converted to 1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5700 Liters = 245.7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search, found that larger height makes the shape to be cheaper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Because the concrete base is the most expensive part of the whole building, so we are trying to keep the bottom area as small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ase cannot be too small and just tall, because then it will collapse very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ing on which dimension is the best. (Longest h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the building from falling sideways, the diameter of the base has to be 3~4 times smaller than height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sony</cp:lastModifiedBy>
  <dcterms:modified xsi:type="dcterms:W3CDTF">2008-12-02T06:17:2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